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60A-96D4-4B6F-B20E-A6DB1652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8D5-08BD-4EA3-88C9-322E26A9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C16-D9DB-4F6C-A891-748F77D4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62F-5B80-4B55-9856-761923B5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61D8-26F9-45CA-AD64-E5DDBD94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9AFC-5BAE-425E-88AB-897B5C2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0F1E-C6EA-43E6-82BD-5AAE13CE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DD59-DFBC-4072-9DD3-BA2E2466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7D16-8467-4245-8337-5A23D99B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20DB-C94E-45C1-AB22-A551C91B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DF82-DCF6-4749-8F7F-EEBB2B6C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CDE-5A6D-4A39-AE94-61504D9F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EDD0-6887-4886-954C-EED1DF3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46AE-C5AD-4D0C-B649-97D2452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CA7E-C5D7-4C38-BA67-D4D2592E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0D96-6482-43D8-AA74-218CED27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A91C-D2F6-4B87-BA2C-49E81D64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1EBEB-5585-43F3-85DD-2B540FA8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CD602-6B28-44FF-AF32-E4111686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9039F-5858-40F1-B182-F0986ABC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20EDA-C56F-4C4F-A58D-5C794302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4D22B-2B79-461D-A7AA-98DA7B65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3B8-F1EA-4DBE-BA39-B5D27E93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B62AA-9F1F-40C3-A081-C51BADAE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93698-6AB2-4DF7-AF5A-35ACBC45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A5BB2-E6FF-46FD-8350-F98BBEFD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E82C9-4B7E-43EC-8EAD-6ACD51F6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95F49-FCF3-470A-9F02-81B90704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20415-8E24-4474-AE6C-19D6198B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7AE7C-675A-4F67-9F32-999F48CB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9C87D-CB50-4984-A4DE-4F976013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B1CD-2976-47D7-BFE2-BAE1C684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A1ACF-F6D3-4840-BFB3-E4FAE977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EDC-6F4B-4DA2-8714-CE46F36E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041A5-351E-4AD9-B95B-2A765B58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E5164-CB7F-4D7E-A7EA-D5E46AD1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7B69F-E913-449A-BA1A-AA23C412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779E5-77C5-477E-A49F-AB12CDE0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509CD-57A6-489E-9B6B-AD5D414F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0C4F-9B64-4542-B0C5-17DB7F4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2A20-02E4-45B8-B808-165F0F5E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FAF2A-1831-4394-A7AF-9E80201F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104A-94C9-4BA5-BEDA-1EF923B0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50A-D562-4D70-8D5D-ED7902BB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81D-E75D-46EC-B91A-DCD2FFBA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4F3-E539-4E36-9F00-7DF7A4C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A29-2867-4EDE-9855-AD9C1CCE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55A-B226-447E-AC81-D9CEB5A3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77FB-10E7-4ECE-814F-AAC5D516B2E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21FD-25D6-4D8A-8B5C-62082A5A27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5017-5511-428C-855B-77771BE342C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3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3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3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DC19-430F-4345-9F15-F7B6DA7A4C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SAFETY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AIRBAGS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N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C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NSTRUCTION OF AIR BAGS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bag are assemblies consisting of the airbag (made of Nylon), inflator modules and sensor housing, electrical connectors (Clock spring), airbag retainer and the cov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or assemb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module activates airbag assembly- electric current is sent to the detonator-ignition of sodium azide pallets-evolves nitrogen 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bags are designed to inflate in frontal impacts in which the car strikes about 16 km/h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collision senors sents an electric current to ignito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 current heats the filament which ignates the capsule which in turn ignites the gas generating pal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as expands quickly and inflation of air bags there by takesplace,which break through a plastic cover in the  steering whe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aken for all these things about .1s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RIVERS SIDE AIRBA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Picture 4" descr="airbag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2590920"/>
            <a:ext cx="6477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47176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08" name="Picture 2" descr="airbag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1981080"/>
            <a:ext cx="4200480" cy="2695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30002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0" name="Picture 4" descr="airbag7"/>
          <p:cNvPicPr/>
          <p:nvPr/>
        </p:nvPicPr>
        <p:blipFill>
          <a:blip r:embed="rId2">
            <a:grayscl/>
          </a:blip>
          <a:stretch/>
        </p:blipFill>
        <p:spPr>
          <a:xfrm>
            <a:off x="5638680" y="1981080"/>
            <a:ext cx="3143520" cy="2571840"/>
          </a:xfrm>
          <a:prstGeom prst="rect">
            <a:avLst/>
          </a:prstGeom>
          <a:ln w="0">
            <a:noFill/>
          </a:ln>
        </p:spPr>
      </p:pic>
      <p:pic>
        <p:nvPicPr>
          <p:cNvPr id="211" name="WordArt 6" descr=""/>
          <p:cNvPicPr/>
          <p:nvPr/>
        </p:nvPicPr>
        <p:blipFill>
          <a:blip r:embed="rId3"/>
          <a:stretch/>
        </p:blipFill>
        <p:spPr>
          <a:xfrm>
            <a:off x="5857920" y="4559400"/>
            <a:ext cx="2468520" cy="341280"/>
          </a:xfrm>
          <a:prstGeom prst="rect">
            <a:avLst/>
          </a:prstGeom>
          <a:ln w="0">
            <a:noFill/>
          </a:ln>
        </p:spPr>
      </p:pic>
      <p:pic>
        <p:nvPicPr>
          <p:cNvPr id="212" name="WordArt 7" descr=""/>
          <p:cNvPicPr/>
          <p:nvPr/>
        </p:nvPicPr>
        <p:blipFill>
          <a:blip r:embed="rId4"/>
          <a:stretch/>
        </p:blipFill>
        <p:spPr>
          <a:xfrm>
            <a:off x="1968480" y="4559400"/>
            <a:ext cx="220680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rn types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2017800"/>
            <a:ext cx="8077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Curtain airba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by mercedes and vol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late infront of windows to provide passengers better head and neck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efficient at tipping and side imp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HIC by 8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Head throax bag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veloped by ford and renaul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igh protection to hea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veloped by BMW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lds first airbag for head 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Smart syste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 weight senso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ype occupant in seat.ie.child or adul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Infrared occupa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 the distance of passenger from airb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Capacitive reflective occupant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sens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distance passenger from dash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e between human occupant and inanimat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pdate senso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loys seatbelt pretensioners faster to get benefit of airb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entralised electronic control uni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sensor technology through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   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2   BASIS OF AIR BA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3   DEVELOPMENTS OF AIR BA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4   CONSTRUCTION OF AIR BA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5   WORK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6   MODERN TY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7   FUTU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8   AIR BAG DEPLOY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9   AIR BAG CHE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0 DISARMING AIR BA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1 CON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r bag de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bag inf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icits contact with airb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ing to rest in seat and deflation of airba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se take in 30 milli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rbags che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turn key look at the dash to find airbag light for 7-10 sec.&amp;then go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 occur w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light does not come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if light does not go off after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if light comes during dri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arming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batt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 30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e airbag f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op sound insulator pa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the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us the bag is disar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the bag below 130degree cels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airbag"/>
          <p:cNvPicPr/>
          <p:nvPr/>
        </p:nvPicPr>
        <p:blipFill>
          <a:blip r:embed="rId1"/>
          <a:stretch/>
        </p:blipFill>
        <p:spPr>
          <a:xfrm>
            <a:off x="1752480" y="26668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airbag1"/>
          <p:cNvPicPr/>
          <p:nvPr/>
        </p:nvPicPr>
        <p:blipFill>
          <a:blip r:embed="rId2"/>
          <a:stretch/>
        </p:blipFill>
        <p:spPr>
          <a:xfrm>
            <a:off x="4191120" y="26668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airbag2"/>
          <p:cNvPicPr/>
          <p:nvPr/>
        </p:nvPicPr>
        <p:blipFill>
          <a:blip r:embed="rId3"/>
          <a:stretch/>
        </p:blipFill>
        <p:spPr>
          <a:xfrm>
            <a:off x="6553080" y="25146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airbag3"/>
          <p:cNvPicPr/>
          <p:nvPr/>
        </p:nvPicPr>
        <p:blipFill>
          <a:blip r:embed="rId4"/>
          <a:stretch/>
        </p:blipFill>
        <p:spPr>
          <a:xfrm>
            <a:off x="1676520" y="43434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irbag4"/>
          <p:cNvPicPr/>
          <p:nvPr/>
        </p:nvPicPr>
        <p:blipFill>
          <a:blip r:embed="rId5"/>
          <a:stretch/>
        </p:blipFill>
        <p:spPr>
          <a:xfrm>
            <a:off x="4191120" y="4419720"/>
            <a:ext cx="1809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rear_restraint"/>
          <p:cNvPicPr/>
          <p:nvPr/>
        </p:nvPicPr>
        <p:blipFill>
          <a:blip r:embed="rId1"/>
          <a:stretch/>
        </p:blipFill>
        <p:spPr>
          <a:xfrm>
            <a:off x="990720" y="3429000"/>
            <a:ext cx="75438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 bags are of greater importance in todays vehicles siince safety of human life is of prior impor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ar safe riding  and for saving  the precious life the safety bags must be implement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hope every automobile manufacturer implements the 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WordArt 2" descr=""/>
          <p:cNvPicPr/>
          <p:nvPr/>
        </p:nvPicPr>
        <p:blipFill>
          <a:blip r:embed="rId1"/>
          <a:stretch/>
        </p:blipFill>
        <p:spPr>
          <a:xfrm>
            <a:off x="-1322280" y="2498760"/>
            <a:ext cx="114840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il recently seat belts provided the sole form of passive restraint in c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ly talks arose about their safe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bags have been under development for many ye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s reveal that airbags reduce the risk of casualty in a DFC by 3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bags are the subject of serious governments industry research and t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ton’s second law of mo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objects aren’t restrained they will continue moving at the speed of the moving car even if the car is stopped by a colli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airbags need to do is to slow down passengers spe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WordArt 5" descr=""/>
          <p:cNvPicPr/>
          <p:nvPr/>
        </p:nvPicPr>
        <p:blipFill>
          <a:blip r:embed="rId1"/>
          <a:stretch/>
        </p:blipFill>
        <p:spPr>
          <a:xfrm>
            <a:off x="444600" y="596880"/>
            <a:ext cx="7291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WAR-2 :saw the first patent on an inflatable crash landing device for airpla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0:first commercial airbags appeared in automob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 since 1988 it became a bin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orts to adapt the airbag was stranded due to prohibitive prices and technical hurd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PARTS OF AN AIRB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lation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de up of a thin nylon fabric, which is folded into the steering wheel or dashboard or the seat or do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powdery substance released ( regular cornstarch or talcum powder) is used to keep the bags lubricated while they’re in stor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ENS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9296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vice that tells the bag to infla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works with the control module to                      discriminate between crash and non- crash events.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FLATION SYSTEM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large amts. of NITROGEN 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t Blasts of the nitrogen inflate the air bag from its storage site up to 322Km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8:32:07Z</dcterms:created>
  <dc:creator>Mechanical Engineering Project</dc:creator>
  <dc:description/>
  <dc:language>en-US</dc:language>
  <cp:lastModifiedBy>Brigade</cp:lastModifiedBy>
  <dcterms:modified xsi:type="dcterms:W3CDTF">2011-08-09T11:09:22Z</dcterms:modified>
  <cp:revision>0</cp:revision>
  <dc:subject/>
  <dc:title>Mechanical Engineering Project</dc:title>
</cp:coreProperties>
</file>